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E28-3407-4026-B9C5-21CEF297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943-96EB-4BBF-A05F-13AF40DF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ED7-448B-4BBA-9A89-1A15D905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60E-55FE-4B3F-B7C8-9D9A06BC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1685-1242-43E4-82B5-8C7D9632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64C-C3E3-4D63-8CC6-698C161B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DBE4-9AB7-4A4C-9137-69436F40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080-B337-4622-A3F8-05803666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9680-92BB-4911-976A-133A0F4E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A700-C30C-4B0F-91D4-73FF388D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297B-7B7F-4297-B269-D4C5A5F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820-25F5-463D-929D-CE71945D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762-4FE9-4703-83A9-A537422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0E42-BFE5-4C15-B7C7-BAEC0D65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58D-5C3D-4278-8C0A-341E3F8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FAB8-AA8A-464F-BFCC-5B743643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414B-7692-4B68-A5A7-90552BC3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6E44-82C0-4F15-AB5D-EB3602B2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294F-17BA-4548-880B-200EFD12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8BB0-3E60-41E1-82FE-5DC73622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DEC6-B785-43A7-A21D-6D2F48B0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BF46-BA99-46F5-91AF-489E6630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1A2-8669-4338-B113-1B2F24D7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4E90-5902-4870-918F-50BCEC86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BC848-3FFC-4674-9DE8-BBB1EBD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886D-9E1F-4A40-B6CF-F9EB8754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3B11-5682-44EB-8E0D-26EDE8FD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8C2E-361D-4FE6-9360-9275368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4A6A-1C39-41DE-B513-16BD7294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F091-9051-4265-A254-5D81A177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DE57-827E-4216-9E8A-049D7816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09AC3-8277-451C-950C-018D9AE7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531C-AA7B-49A4-A94B-40F6B2F8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E9A-3A41-4071-8F28-E30A6714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EF79-8AE4-4810-BC74-FE164BA5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B598-A8D4-49F2-98BA-4B493CC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78E4-B4C5-405B-AD06-D65B936E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7CAD-FE7F-4FCB-8EA7-F4C320F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E7F7-0852-4EA0-87EC-553F617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B1414-F7EB-4027-8227-774D0D89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4CB5-2F19-47AA-88A0-20CC0A7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09DD-DE3C-4F44-95D3-333B8317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B0A96-ECFA-4B87-8041-BACC130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A0A9-E867-424D-9498-EB36B752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AF4-64E8-4F48-B250-4398C80C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A51B-0908-4CCA-B75C-1B948EBD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EDD53-28A8-462D-8FD9-782AF08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5CB8-F83F-43BC-B7E2-F04AEC09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00B5B-4F06-4548-8EDC-3A92EDF0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386FD-DF29-4FED-BF0A-1938E95F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0C0A3-AD10-466F-ABD6-4F57937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F072-39CE-48E6-961E-152B43D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5E15-44E3-42E8-9DDE-C55FDE79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0123B-3077-44D2-98A8-E9C5D987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2CF02-81BA-43AC-9E10-B28159F2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2DF-BA88-45F5-A7B2-B816AAD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0110-999B-4338-BFB9-5610C7FA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F47E6-1664-4AB5-A1C7-A908F736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D5644-528E-422B-B510-E292E335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FB35-3E7F-49D9-A705-A51CE9E7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2E27E-E6BE-4E4E-B5FC-5F9B0D85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156DF-C3FF-4CC6-BC1C-6EECC604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91DE1-22FE-45CC-928A-78CF480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2C89-F28B-4DC0-9DFA-7E265B59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46DD-345F-4DDA-A8D4-5C88338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A9E1-11F8-4EFA-9568-A6F5F46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CDA-6441-48A5-A0BB-C76987F0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6EF0E-F2EF-4A61-9B76-37511B72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BF96D-E6C7-4876-874C-125D95DD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F2DB-79D6-47AA-A0CB-8846E57D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ED6EC-3F62-4798-B729-DEAC2AD8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D9537-FDF8-4C5D-BA73-C04ED0E8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72D0B-C92E-4E81-9C91-E2937940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3AEF4-D8B7-4886-96D9-F60E4B4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22C9-0F20-442F-8A03-F9857261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7866-2E1B-4671-98A2-BC4801AB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5C87-62AA-45D6-A247-9B09701A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D95-9C45-47E8-8676-9F563C7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8C9C-0704-4075-9A82-FB896267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8CD43-3A48-4F2D-9583-8518397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16FC3-27E3-490F-A168-251B1F8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3B919-868D-46EF-9E46-AFB0434E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4F9B4-39C0-4FAF-90D9-999FAE2E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790B-450F-49D3-9326-BC06DD27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81231-92FF-45BD-A528-7B606EC7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5C228-BA94-4252-93F7-5BED3E44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90941-6EE3-4FA6-B104-3F308C8D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E6C0-A2AC-4532-A188-E049441F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B7B-EAF9-4CB7-96FC-56A232AD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F87DE-3F5B-45D8-93FA-1786F30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058C2-4C81-45D6-8276-8A569D5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A1B5-E4EB-4571-9D99-EEAEB13C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278AD-2598-4889-AC8F-B8334FF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7336-B73B-4BF7-910E-FA3DA3E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E3CF-6DA4-44F2-9FF2-1865F883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36BE-188F-4D21-B0BA-8F6BC29C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9591-83DE-409B-88A2-2FD05AD8FB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7030a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370-06DE-494D-BC53-0ED1326FE5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13E-1312-49EB-B7E2-C96126AD625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9F96-BBAC-48EB-9315-41D8A6B72CF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8B99-A043-44C0-940C-2B2564B33EA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34E-A67E-48C3-9F64-62767DF4CB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030a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FED9-5A47-4604-BB46-60542A6BA2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b0f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b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b0f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f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f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D52F-B302-4C19-93BF-7F3505EA7F85}" type="slidenum">
              <a:rPr b="0" lang="en-US" sz="1000" spc="-1" strike="noStrike">
                <a:solidFill>
                  <a:srgbClr val="00b0f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By: </a:t>
            </a:r>
            <a:r>
              <a:rPr b="0" lang="en-US" sz="2700" spc="-1" strike="noStrike">
                <a:solidFill>
                  <a:srgbClr val="37ff92"/>
                </a:solidFill>
                <a:latin typeface="Lucida Sans Unicode"/>
              </a:rPr>
              <a:t>Abby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Tanner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and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lly!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2" name="Picture 3" descr="imagesCALMP0HT.jpg"/>
          <p:cNvPicPr/>
          <p:nvPr/>
        </p:nvPicPr>
        <p:blipFill>
          <a:blip r:embed="rId2"/>
          <a:stretch/>
        </p:blipFill>
        <p:spPr>
          <a:xfrm rot="20416200">
            <a:off x="304920" y="615600"/>
            <a:ext cx="40827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As </a:t>
            </a:r>
            <a:r>
              <a:rPr b="1" lang="en-CA" sz="3200" spc="-1" strike="noStrike" u="sng">
                <a:solidFill>
                  <a:srgbClr val="37ff92"/>
                </a:solidFill>
                <a:uFillTx/>
                <a:latin typeface="Lucida Sans Unicode"/>
              </a:rPr>
              <a:t>materials warm up</a:t>
            </a:r>
            <a:r>
              <a:rPr b="0" lang="en-CA" sz="32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their particles move faster and </a:t>
            </a:r>
            <a:r>
              <a:rPr b="1" lang="en-CA" sz="3200" spc="-1" strike="noStrike" u="sng">
                <a:solidFill>
                  <a:srgbClr val="37ff92"/>
                </a:solidFill>
                <a:uFillTx/>
                <a:latin typeface="Lucida Sans Unicode"/>
              </a:rPr>
              <a:t>spread further apart</a:t>
            </a: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. </a:t>
            </a:r>
            <a:endParaRPr b="0" lang="en-US" sz="32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Substances expand </a:t>
            </a:r>
            <a:r>
              <a:rPr b="0" lang="en-CA" sz="32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3200" spc="-1" strike="noStrike" u="sng">
                <a:solidFill>
                  <a:srgbClr val="37ff92"/>
                </a:solidFill>
                <a:uFillTx/>
                <a:latin typeface="Lucida Sans Unicode"/>
              </a:rPr>
              <a:t>increase in volume</a:t>
            </a:r>
            <a:r>
              <a:rPr b="0" lang="en-CA" sz="3200" spc="-1" strike="noStrike">
                <a:solidFill>
                  <a:srgbClr val="37ff92"/>
                </a:solidFill>
                <a:latin typeface="Lucida Sans Unicode"/>
              </a:rPr>
              <a:t>) </a:t>
            </a:r>
            <a:r>
              <a:rPr b="0" lang="en-CA" sz="3200" spc="-1" strike="noStrike">
                <a:solidFill>
                  <a:srgbClr val="7030a0"/>
                </a:solidFill>
                <a:latin typeface="Lucida Sans Unicode"/>
              </a:rPr>
              <a:t>as their temperature rises.</a:t>
            </a:r>
            <a:endParaRPr b="0" lang="en-US" sz="32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jdjdgh.jpg"/>
          <p:cNvPicPr/>
          <p:nvPr/>
        </p:nvPicPr>
        <p:blipFill>
          <a:blip r:embed="rId2"/>
          <a:stretch/>
        </p:blipFill>
        <p:spPr>
          <a:xfrm>
            <a:off x="5724360" y="3573360"/>
            <a:ext cx="29592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Falling temperature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means that average particle motion is 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slowing down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.  This normally results in a decrease in volume 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contracts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).</a:t>
            </a:r>
            <a:r>
              <a:rPr b="0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 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Pure substances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are made up of only </a:t>
            </a:r>
            <a:r>
              <a:rPr b="0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one typ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of particle. They can exist as a solid, liquid, or gas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Solids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-have a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definite shape and volume 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and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cannot be compressed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into a smaller space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Liquids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– have a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definite volum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but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no fixed shap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and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cannot be compressed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Gases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– have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no definite shape or volume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.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They expand to fill all parts of their container and can easily </a:t>
            </a:r>
            <a:r>
              <a:rPr b="1" lang="en-CA" sz="2800" spc="-1" strike="noStrike" u="sng">
                <a:solidFill>
                  <a:srgbClr val="37ff92"/>
                </a:solidFill>
                <a:uFillTx/>
                <a:latin typeface="Lucida Sans Unicode"/>
              </a:rPr>
              <a:t>be compressed</a:t>
            </a:r>
            <a:r>
              <a:rPr b="0" lang="en-CA" sz="28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800" spc="-1" strike="noStrike">
                <a:solidFill>
                  <a:srgbClr val="7030a0"/>
                </a:solidFill>
                <a:latin typeface="Lucida Sans Unicode"/>
              </a:rPr>
              <a:t>into a smaller space.</a:t>
            </a: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  <a:p>
            <a:pPr marL="447840" indent="-382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353880" y="262080"/>
            <a:ext cx="84852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268280"/>
            <a:ext cx="8229600" cy="3456000"/>
          </a:xfrm>
          <a:prstGeom prst="rect">
            <a:avLst/>
          </a:prstGeom>
          <a:solidFill>
            <a:srgbClr val="00b0f0"/>
          </a:solidFill>
          <a:ln w="9360">
            <a:solidFill>
              <a:srgbClr val="37ff92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030a0"/>
                </a:solidFill>
                <a:latin typeface="Lucida Sans Unicode"/>
              </a:rPr>
              <a:t>Solids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expand and contract depending on the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arrangement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of particles in that particular substance. The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closer the particles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are, the faster they expand or contract. When they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collide with another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atom they pass along their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thermal energy</a:t>
            </a:r>
            <a:r>
              <a:rPr b="0" lang="en-CA" sz="2400" spc="-1" strike="noStrike">
                <a:solidFill>
                  <a:srgbClr val="37ff92"/>
                </a:solidFill>
                <a:latin typeface="Lucida Sans Unicode"/>
              </a:rPr>
              <a:t>. 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The closer the particles are together, the quicker they pass along their energy.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Dense solids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 heat up and cool down </a:t>
            </a:r>
            <a:r>
              <a:rPr b="1" lang="en-CA" sz="2400" spc="-1" strike="noStrike" u="sng">
                <a:solidFill>
                  <a:srgbClr val="37ff92"/>
                </a:solidFill>
                <a:uFillTx/>
                <a:latin typeface="Lucida Sans Unicode"/>
              </a:rPr>
              <a:t>quickly</a:t>
            </a:r>
            <a:r>
              <a:rPr b="0" lang="en-CA" sz="2400" spc="-1" strike="noStrike">
                <a:solidFill>
                  <a:srgbClr val="7030a0"/>
                </a:solidFill>
                <a:latin typeface="Lucida Sans Unicode"/>
              </a:rPr>
              <a:t> – Expand and Contract quickly.</a:t>
            </a:r>
            <a:endParaRPr b="0" lang="en-US" sz="2400" spc="-1" strike="noStrike">
              <a:solidFill>
                <a:srgbClr val="7030a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69800" y="450720"/>
            <a:ext cx="8229600" cy="1244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jkryukry.jpg"/>
          <p:cNvPicPr/>
          <p:nvPr/>
        </p:nvPicPr>
        <p:blipFill>
          <a:blip r:embed="rId2"/>
          <a:stretch/>
        </p:blipFill>
        <p:spPr>
          <a:xfrm>
            <a:off x="5148360" y="4292640"/>
            <a:ext cx="37274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50920" y="1412640"/>
            <a:ext cx="8686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Gases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expand and contract 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slower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than solids do because there is no fixed shape and volume. The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spaces between the particles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are very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far apart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compared to a solid and therefore they take a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long time to collide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into another particle and pass along their </a:t>
            </a:r>
            <a:r>
              <a:rPr b="1" lang="en-CA" sz="3000" spc="-1" strike="noStrike" u="sng">
                <a:solidFill>
                  <a:srgbClr val="37ff92"/>
                </a:solidFill>
                <a:uFillTx/>
                <a:latin typeface="Lucida Sans Unicode"/>
              </a:rPr>
              <a:t>thermal energy</a:t>
            </a:r>
            <a:r>
              <a:rPr b="0" lang="en-CA" sz="30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3000" spc="-1" strike="noStrike">
                <a:solidFill>
                  <a:srgbClr val="7030a0"/>
                </a:solidFill>
                <a:latin typeface="Lucida Sans Unicode"/>
              </a:rPr>
              <a:t>to the next particle. </a:t>
            </a:r>
            <a:endParaRPr b="0" lang="en-US" sz="3000" spc="-1" strike="noStrike">
              <a:solidFill>
                <a:srgbClr val="7030a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396720" y="420840"/>
            <a:ext cx="8399520" cy="1195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yhyetyjh.jpg"/>
          <p:cNvPicPr/>
          <p:nvPr/>
        </p:nvPicPr>
        <p:blipFill>
          <a:blip r:embed="rId2"/>
          <a:stretch/>
        </p:blipFill>
        <p:spPr>
          <a:xfrm>
            <a:off x="5288040" y="4076640"/>
            <a:ext cx="3506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6836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Liquids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expand and contract with 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changes in thermal energy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depending on the space between the particles 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density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)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in a particular substance. This is why thermometers are made with only 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certain kinds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 </a:t>
            </a: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of liquids to measure in a laboratory 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(</a:t>
            </a:r>
            <a:r>
              <a:rPr b="1" lang="en-CA" sz="2700" spc="-1" strike="noStrike" u="sng">
                <a:solidFill>
                  <a:srgbClr val="37ff92"/>
                </a:solidFill>
                <a:uFillTx/>
                <a:latin typeface="Lucida Sans Unicode"/>
              </a:rPr>
              <a:t>Mercury or Alcohol</a:t>
            </a:r>
            <a:r>
              <a:rPr b="0" lang="en-CA" sz="2700" spc="-1" strike="noStrike">
                <a:solidFill>
                  <a:srgbClr val="37ff92"/>
                </a:solidFill>
                <a:latin typeface="Lucida Sans Unicode"/>
              </a:rPr>
              <a:t>).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7030a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030a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91320" cy="1268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232000" cy="286380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90" name="Picture 5" descr="hjhghjgdh.jpg"/>
          <p:cNvPicPr/>
          <p:nvPr/>
        </p:nvPicPr>
        <p:blipFill>
          <a:blip r:embed="rId3"/>
          <a:stretch/>
        </p:blipFill>
        <p:spPr>
          <a:xfrm>
            <a:off x="2050920" y="4076640"/>
            <a:ext cx="34578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20:04:21Z</dcterms:created>
  <dc:creator>Administrator</dc:creator>
  <dc:description/>
  <dc:language>en-US</dc:language>
  <cp:lastModifiedBy>Kidd</cp:lastModifiedBy>
  <dcterms:modified xsi:type="dcterms:W3CDTF">2012-02-28T23:50:28Z</dcterms:modified>
  <cp:revision>3</cp:revision>
  <dc:subject/>
  <dc:title>Unit 3, Topic 4!</dc:title>
</cp:coreProperties>
</file>